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E1A-17EA-4B12-AA9E-2824AFD1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A99-E449-4EF7-BB3B-83B294A9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B0F-8104-40CC-8128-3B61E7C6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8A7-E9FA-427C-8AD4-E33DE21E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C8D-C096-44AB-AB9D-6B156F30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D65-6E4B-4585-B1D7-F3955A8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E04-FD5E-4606-ADD5-E5051EF4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5E1-76E7-4D92-8E9C-9430BE54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AF3-5D4C-49B4-9526-5EDD6AD9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393-AF62-43D9-B3D9-A6FF8C1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9C3-1B94-4CDC-938E-1BB96D14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0A3-42A4-4297-9D19-32A080E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7ED2-EEB0-45BB-A1C6-F301656C9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form to add a custo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VD Rental Use C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" y="1019160"/>
            <a:ext cx="83059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form to rent a D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Pract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use case description for the use case “Search for a movi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UI form for that use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for the use case “DVD retur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iki.ucalgary.ca/page/Courses/Computer_Science/CPSC_203/CPSC_203_Template/Labs_Template/Week_2_-_Lab_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Design a Softwar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the use case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the ER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use case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the UI forms using the use case description and the ER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VD Rental Stor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ign a DVD rental system that has two main users: a clerk and an ad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lerk can add a customer, remove a customer, update the customer’s info, rent DVD, return DVD, view late returns, search for a specific movie, or search for a specific custom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dmin can add a new DVD, remove a DVD, modify DVD info, or analyze the current rent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28600" y="0"/>
            <a:ext cx="8655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61976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 Customer Use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386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9:23:21Z</dcterms:created>
  <dc:creator>Soha</dc:creator>
  <dc:description/>
  <dc:language>en-US</dc:language>
  <cp:lastModifiedBy>Soha</cp:lastModifiedBy>
  <dcterms:modified xsi:type="dcterms:W3CDTF">2009-04-09T09:34:29Z</dcterms:modified>
  <cp:revision>9</cp:revision>
  <dc:subject/>
  <dc:title>Design Skills</dc:title>
</cp:coreProperties>
</file>